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7C9D-B481-4A06-8035-8F420993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C137-B56B-45A9-A813-6AA5B225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BBA6-ABC6-45F4-9F70-0719D22B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8695-8DBA-4AF2-8F80-52DD576BA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774C-FC1E-4961-88DB-4DDAC3706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EF25-10A7-45FE-91B1-8B61F6DF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85AE-66AB-4330-B75C-EA26DAB6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03DE-D62F-4144-9F86-5B282A85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0F8D-D071-4D06-B940-FCE18427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083B-B071-4A98-B267-FDB0348E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9199-75A4-4C61-8B1C-C0A4931C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1B76-4C81-41C5-8CB9-F6D5D5F5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B798-7513-4D0A-BBF0-6DC88496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3EA2-6C8A-4A50-9F5A-A79ABFF8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ADE7-D37C-4604-A065-2B3F46E9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0567-B3E6-4CC8-8A48-476D45C51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57C7-272A-44E4-94AB-AF163B82E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C759-6850-4C4F-9651-8F28DA7E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6F15-15BD-479C-8D97-06D83A18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F873-581C-4492-BB7B-29E575B8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D0E2-EBE8-4161-B3E9-9EFC9A82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F965-4710-459E-BB6A-0BCB552F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F36E-9FFE-4A15-AD52-FE8B80EB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6596-00EB-4E3A-944F-099B9ED0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6E41-88BA-4D22-A536-0B55C6CC80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539F-DB65-43A3-A79F-AEFC976641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m/imgres?imgurl=http://www.aboriginalfootball.com.au/AF-0307-WAFLlogo.jpg&amp;imgrefurl=http://www.aboriginalfootball.com.au/wafl.html&amp;h=150&amp;w=142&amp;sz=17&amp;hl=en&amp;start=4&amp;um=1&amp;tbnid=4xdnYOq89ESbjM:&amp;tbnh=96&amp;tbnw=91&amp;prev=/images%3Fq%3Dgraham%2Bfarmer%2Bfootballer%26um%3D1%26hl%3Den%26safe%3Dstrict%26rls%3Dcom.microsoft:en-au%26sa%3DN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Papyrus"/>
              </a:rPr>
              <a:t>Graham Farmer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 rot="809400">
            <a:off x="7092720" y="4508640"/>
            <a:ext cx="1850760" cy="1698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rot="15130200">
            <a:off x="392040" y="4584240"/>
            <a:ext cx="1850760" cy="1698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484360" y="6858000"/>
            <a:ext cx="417672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100"/>
                            </p:stCondLst>
                            <p:childTnLst>
                              <p:par>
                                <p:cTn id="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29226 L 0 -0.76139 E">
                                      <p:cBhvr>
                                        <p:cTn id="1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 rot="21181200">
            <a:off x="468360" y="1052640"/>
            <a:ext cx="4535280" cy="4680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724360" y="1628640"/>
            <a:ext cx="295128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Graham “Polly” Farmer played in the Cats team in Geelo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Geelong captain from 1965 to 19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 rot="3956400">
            <a:off x="6125760" y="4827600"/>
            <a:ext cx="1711080" cy="179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 rot="471000">
            <a:off x="754200" y="703440"/>
            <a:ext cx="3887640" cy="5256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148360" y="1916280"/>
            <a:ext cx="33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2637000"/>
            <a:ext cx="287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Member of the 1963 premiership te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 rot="20216400">
            <a:off x="6443280" y="4508280"/>
            <a:ext cx="18144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>
            <a:lum bright="18000"/>
          </a:blip>
          <a:stretch/>
        </p:blipFill>
        <p:spPr>
          <a:xfrm rot="21146400">
            <a:off x="826560" y="1125360"/>
            <a:ext cx="3543480" cy="4824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651640" y="1989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1916280"/>
            <a:ext cx="244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First Ruck in the AFL Team of the Century. AFL leg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0360" y="4797360"/>
            <a:ext cx="201456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 rot="21432600">
            <a:off x="1979280" y="-3484080"/>
            <a:ext cx="3600360" cy="3267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867280" y="11970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 rot="20216400">
            <a:off x="6587640" y="4292280"/>
            <a:ext cx="1814760" cy="18129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940360" y="2565360"/>
            <a:ext cx="295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pyrus"/>
              </a:rPr>
              <a:t>This is stamps of Graham “Polly” Far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 rot="410400">
            <a:off x="250560" y="7174080"/>
            <a:ext cx="35971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.2696 L 1.94444E-006 0.60255 E">
                                      <p:cBhvr>
                                        <p:cTn id="43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17595 L 0.00018 -0.5089 E">
                                      <p:cBhvr>
                                        <p:cTn id="45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7T02:01:19Z</dcterms:created>
  <dc:creator>Reservoir District Secondary College</dc:creator>
  <dc:description/>
  <dc:language>en-US</dc:language>
  <cp:lastModifiedBy>Reservoir District Secondary College</cp:lastModifiedBy>
  <dcterms:modified xsi:type="dcterms:W3CDTF">2008-07-17T02:17:57Z</dcterms:modified>
  <cp:revision>7</cp:revision>
  <dc:subject/>
  <dc:title>Graham Farmer </dc:title>
</cp:coreProperties>
</file>